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F84-966A-4284-BF13-F4BBBCDC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AEA-4464-4FB6-B676-5811921B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472-21B3-4DF0-B76F-2F71B725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6C0-77AE-4E94-9F19-8BE6A171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353D-1CB5-405C-892D-A83D96CE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B760-4515-48BC-81BF-A219ECF4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B6CF-7F4A-4BD6-90ED-318E9E96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7400-B424-46F0-9620-69D3529A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A7E9-2773-4CDA-85D2-5EC346B5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0A23-85E5-4853-A270-F6B71B01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66ED-0E48-48AD-B3BC-B7C400CE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C79-80BD-410D-9F73-8FD12337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81AB-321B-4584-AFC4-33B9E036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FDA0-281C-4EA0-A1C2-AD9115B3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6C75-96E4-433F-9765-B90EBDA7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EB4C-F24D-4D91-9088-A84F9DA5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FF5B-72DA-4CB3-8D9D-2E5A476C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E68-38EA-4D7D-872A-4F9C56F2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8E0-1389-44FF-9BFA-6657B26D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031-FEEB-4A81-9E15-098836DD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196-FB44-453F-AB37-625B49E2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BE65-D979-4B27-9C99-1CC2837B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627-A01D-4B8F-A228-3094CE2B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5C0-AC2A-439E-A6F9-28C8A406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7B7F-518D-4371-AEC8-DC099899CFBF}" type="slidenum">
              <a:rPr b="0" lang="en-GB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2096-3BA1-4498-8604-A7263BA14129}" type="slidenum">
              <a:rPr b="0" lang="en-GB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8480520" cy="1841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0" y="1197000"/>
            <a:ext cx="4208400" cy="18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M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D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2705040"/>
            <a:ext cx="5192640" cy="4152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3924360" y="1700280"/>
            <a:ext cx="5219640" cy="40003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463680" y="-201600"/>
            <a:ext cx="8242200" cy="2517840"/>
          </a:xfrm>
          <a:prstGeom prst="rect">
            <a:avLst/>
          </a:prstGeom>
          <a:ln w="0">
            <a:noFill/>
          </a:ln>
        </p:spPr>
      </p:pic>
      <p:grpSp>
        <p:nvGrpSpPr>
          <p:cNvPr id="132" name="Content Placeholder 2"/>
          <p:cNvGrpSpPr/>
          <p:nvPr/>
        </p:nvGrpSpPr>
        <p:grpSpPr>
          <a:xfrm>
            <a:off x="560520" y="2328840"/>
            <a:ext cx="8643960" cy="3797280"/>
            <a:chOff x="560520" y="2328840"/>
            <a:chExt cx="8643960" cy="3797280"/>
          </a:xfrm>
        </p:grpSpPr>
        <p:pic>
          <p:nvPicPr>
            <p:cNvPr id="133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560520" y="2328840"/>
              <a:ext cx="8643960" cy="379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611280" y="2349360"/>
              <a:ext cx="8229600" cy="34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>
                <a:lnSpc>
                  <a:spcPct val="100000"/>
                </a:lnSpc>
                <a:spcBef>
                  <a:spcPts val="700"/>
                </a:spcBef>
                <a:buClr>
                  <a:srgbClr val="f9f9f9"/>
                </a:buClr>
                <a:buSzPct val="65000"/>
                <a:buFont typeface="Wingdings 2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rinsic motivation involves gaining self-satisfaction, pride and a feeling of achievement. </a:t>
              </a:r>
              <a:endParaRPr b="0" lang="en-US" sz="2800" spc="-1" strike="noStrike">
                <a:solidFill>
                  <a:srgbClr val="ffffff"/>
                </a:solidFill>
                <a:latin typeface="Book Antiqua"/>
              </a:endParaRPr>
            </a:p>
            <a:p>
              <a:pPr marL="547560" indent="-411120">
                <a:lnSpc>
                  <a:spcPct val="100000"/>
                </a:lnSpc>
                <a:spcBef>
                  <a:spcPts val="700"/>
                </a:spcBef>
                <a:buClr>
                  <a:srgbClr val="f9f9f9"/>
                </a:buClr>
                <a:buSzPct val="65000"/>
                <a:buFont typeface="Wingdings 2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Book Antiqua"/>
              </a:endParaRPr>
            </a:p>
            <a:p>
              <a:pPr marL="547560" indent="-411120">
                <a:lnSpc>
                  <a:spcPct val="100000"/>
                </a:lnSpc>
                <a:spcBef>
                  <a:spcPts val="700"/>
                </a:spcBef>
                <a:buClr>
                  <a:srgbClr val="f9f9f9"/>
                </a:buClr>
                <a:buSzPct val="65000"/>
                <a:buFont typeface="Wingdings 2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 often involves overcoming a particular challenge or simply gaining enjoyment from participating. </a:t>
              </a:r>
              <a:endParaRPr b="0" lang="en-US" sz="2800" spc="-1" strike="noStrike">
                <a:solidFill>
                  <a:srgbClr val="ffffff"/>
                </a:solidFill>
                <a:latin typeface="Book Antiqua"/>
              </a:endParaRPr>
            </a:p>
            <a:p>
              <a:pPr marL="547560" indent="-411120">
                <a:lnSpc>
                  <a:spcPct val="100000"/>
                </a:lnSpc>
                <a:spcBef>
                  <a:spcPts val="700"/>
                </a:spcBef>
                <a:buClr>
                  <a:srgbClr val="f9f9f9"/>
                </a:buClr>
                <a:buSzPct val="65000"/>
                <a:buFont typeface="Wingdings 2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</p:spTree>
  </p:cSld>
  <p:transition spd="med" advTm="15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895320" y="-64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0" y="1052280"/>
            <a:ext cx="8229600" cy="3197160"/>
          </a:xfrm>
          <a:prstGeom prst="rect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7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Extrinsic motiv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involves the performer receiving some form of reward from others, often as a form of reward from oth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Can be tangible or intangibl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angible – are real can be touched (Money/ Trophies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Intangible – Words, status e.g applaus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0" y="4724280"/>
            <a:ext cx="8209080" cy="2014200"/>
          </a:xfrm>
          <a:prstGeom prst="rect">
            <a:avLst/>
          </a:prstGeom>
          <a:solidFill>
            <a:srgbClr val="9cb084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030a0"/>
                </a:solidFill>
                <a:latin typeface="Century"/>
              </a:rPr>
              <a:t>The use of extrinsic motivation must be monitored carefully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030a0"/>
                </a:solidFill>
                <a:latin typeface="Century"/>
              </a:rPr>
              <a:t>If overused, it may lead to the performer only participating if they will be externally rewarded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030a0"/>
                </a:solidFill>
                <a:latin typeface="Century"/>
              </a:rPr>
              <a:t>This will reduce intrinsic motivation and may lead to a drop in participation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Flowchart: Summing Junction 5"/>
          <p:cNvSpPr/>
          <p:nvPr/>
        </p:nvSpPr>
        <p:spPr>
          <a:xfrm>
            <a:off x="7453440" y="3284640"/>
            <a:ext cx="1511280" cy="1728720"/>
          </a:xfrm>
          <a:prstGeom prst="flowChartSummingJunction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 advTm="15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267760" cy="1182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eb966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ow would the </a:t>
            </a:r>
            <a:r>
              <a:rPr b="1" lang="en-GB" sz="3600" spc="-1" strike="noStrike">
                <a:solidFill>
                  <a:srgbClr val="c00000"/>
                </a:solidFill>
                <a:latin typeface="Book Antiqua"/>
              </a:rPr>
              <a:t>various views/theories 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of </a:t>
            </a:r>
            <a:r>
              <a:rPr b="0" lang="en-GB" sz="3600" spc="-1" strike="noStrike">
                <a:solidFill>
                  <a:srgbClr val="c00000"/>
                </a:solidFill>
                <a:latin typeface="Book Antiqua"/>
              </a:rPr>
              <a:t>motivation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(</a:t>
            </a:r>
            <a:r>
              <a:rPr b="0" lang="en-GB" sz="3600" spc="-1" strike="noStrike">
                <a:solidFill>
                  <a:srgbClr val="c00000"/>
                </a:solidFill>
                <a:latin typeface="Book Antiqua"/>
              </a:rPr>
              <a:t>intrinsic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GB" sz="3600" spc="-1" strike="noStrike">
                <a:solidFill>
                  <a:srgbClr val="c00000"/>
                </a:solidFill>
                <a:latin typeface="Book Antiqua"/>
              </a:rPr>
              <a:t>extrinsic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) affect </a:t>
            </a:r>
            <a:r>
              <a:rPr b="0" lang="en-GB" sz="3600" spc="-1" strike="noStrike">
                <a:solidFill>
                  <a:srgbClr val="c00000"/>
                </a:solidFill>
                <a:latin typeface="Book Antiqua"/>
              </a:rPr>
              <a:t>sports performance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??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395280" y="429264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</a:rPr>
              <a:t>When talking about the effect on sports performance, make your views and back it up with the information you have researched/gathered from various sources… Remember there is NOT a wrong answer- unless it is NOT backed up with theories and findings!!!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 advTm="15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39680" y="-92160"/>
            <a:ext cx="4151160" cy="1476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108000" y="2043000"/>
            <a:ext cx="4473360" cy="460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For P2, learners must describe the factors that affect the motivation of athletes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This must include a 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efinition of motivation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, along with a description of 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views of motivation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motivation types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theories of motivation 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how motivation 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affects sport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erformance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0" y="1268280"/>
            <a:ext cx="3357720" cy="77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3"/>
          <a:stretch/>
        </p:blipFill>
        <p:spPr>
          <a:xfrm>
            <a:off x="5651640" y="115920"/>
            <a:ext cx="3357360" cy="1000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4"/>
          <a:stretch/>
        </p:blipFill>
        <p:spPr>
          <a:xfrm>
            <a:off x="5076720" y="3270240"/>
            <a:ext cx="3367080" cy="10540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4486320" y="1055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Grading criterion M1 links to criteria P1 and P2, requiring learners to explain the effects of personality and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motivation on sports performance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581360" y="4454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Grading criterion D1 builds on M1, and requires learners to evaluate the effects of personality and motivation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on sports performance. This means learners must make a judgement based on each of the effects that the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have described/explained (criteria P1, P2 and M1)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 advTm="1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311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94920" y="25653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Book Antiqua"/>
              </a:rPr>
              <a:t>Cox (1998)- A desire to fulfil a ne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Book Antiqua"/>
              </a:rPr>
              <a:t>Sage (1974)- The internal mechanisms which arouse and direct behaviou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Book Antiqua"/>
              </a:rPr>
              <a:t>Sage (1974)- The direction and intensity of ones effor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The effort administered towards a goal or desired behaviour’ (Allen, 2013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611280" y="1844640"/>
            <a:ext cx="2448000" cy="368280"/>
          </a:xfrm>
          <a:prstGeom prst="rect">
            <a:avLst/>
          </a:prstGeom>
          <a:solidFill>
            <a:srgbClr val="9cb084"/>
          </a:solidFill>
          <a:ln w="25560">
            <a:solidFill>
              <a:srgbClr val="718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Definitions: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 advTm="1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38120" y="103320"/>
            <a:ext cx="8377200" cy="1377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95280" y="1341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Book Antiqua"/>
              </a:rPr>
              <a:t>Trait Centr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바탕"/>
                <a:ea typeface="바탕"/>
              </a:rPr>
              <a:t>Motivation comes from within regarding the situ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Book Antiqua"/>
              </a:rPr>
              <a:t>Situation Centr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바탕"/>
                <a:ea typeface="바탕"/>
              </a:rPr>
              <a:t>The situation determines the level of motivation, which also shapes your behaviou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Book Antiqua"/>
              </a:rPr>
              <a:t>Interactional View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바탕"/>
                <a:ea typeface="바탕"/>
              </a:rPr>
              <a:t>It is a combination of both a persons trait and the situation that affects the level of motivation show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697040" y="4919760"/>
            <a:ext cx="7416720" cy="1922760"/>
          </a:xfrm>
          <a:prstGeom prst="rect">
            <a:avLst/>
          </a:prstGeom>
          <a:solidFill>
            <a:srgbClr val="6bb1c9"/>
          </a:solidFill>
          <a:ln w="25560">
            <a:solidFill>
              <a:srgbClr val="4d8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Motivation can influence your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- Selection and preference for an activ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- Persisten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- Effort leve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- Performance levels relative to your ability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 advTm="1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109960"/>
            <a:ext cx="8266320" cy="16333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-55440" y="-30240"/>
            <a:ext cx="8413560" cy="88920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6480" y="836640"/>
            <a:ext cx="4321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It is seen as a personality factor and describes our persistence to keep striving for success… Our level of </a:t>
            </a:r>
            <a:r>
              <a:rPr b="1" lang="en-GB" sz="1800" spc="-1" strike="noStrike">
                <a:solidFill>
                  <a:srgbClr val="0070c0"/>
                </a:solidFill>
                <a:latin typeface="Book Antiqua"/>
              </a:rPr>
              <a:t>COMPETITIVENESS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16000" y="2282760"/>
            <a:ext cx="4105080" cy="1465560"/>
          </a:xfrm>
          <a:prstGeom prst="rect">
            <a:avLst/>
          </a:prstGeom>
          <a:solidFill>
            <a:srgbClr val="ceb966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Yet… some people are driven to success and hav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 Black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 fear of failure, whilst some people are driven to succeed due to a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 Black"/>
              </a:rPr>
              <a:t>DEEP fear </a:t>
            </a: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of failure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Right Arrow 5"/>
          <p:cNvSpPr/>
          <p:nvPr/>
        </p:nvSpPr>
        <p:spPr>
          <a:xfrm>
            <a:off x="4354560" y="2174760"/>
            <a:ext cx="1512720" cy="2160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805360" y="18208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‘</a:t>
            </a: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I do not play to win; I play to fight against the idea of losing’ (Eric Cantona, 1997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216000" y="4076640"/>
            <a:ext cx="8532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Book Antiqua"/>
              </a:rPr>
              <a:t>McClelland and Atkinson: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바탕"/>
                <a:ea typeface="바탕"/>
              </a:rPr>
              <a:t>Achievement Motivation</a:t>
            </a:r>
            <a:r>
              <a:rPr b="1" lang="en-GB" sz="2400" spc="-1" strike="noStrike">
                <a:solidFill>
                  <a:srgbClr val="ffff00"/>
                </a:solidFill>
                <a:latin typeface="바탕"/>
                <a:ea typeface="바탕"/>
              </a:rPr>
              <a:t>= need to achieve (nACH)- need to avoid failure (naF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99" name="TextBox 9"/>
          <p:cNvGrpSpPr/>
          <p:nvPr/>
        </p:nvGrpSpPr>
        <p:grpSpPr>
          <a:xfrm>
            <a:off x="103320" y="5492880"/>
            <a:ext cx="9235800" cy="1584360"/>
            <a:chOff x="103320" y="5492880"/>
            <a:chExt cx="9235800" cy="1584360"/>
          </a:xfrm>
        </p:grpSpPr>
        <p:pic>
          <p:nvPicPr>
            <p:cNvPr id="100" name="TextBox 9" descr=""/>
            <p:cNvPicPr/>
            <p:nvPr/>
          </p:nvPicPr>
          <p:blipFill>
            <a:blip r:embed="rId2"/>
            <a:stretch/>
          </p:blipFill>
          <p:spPr>
            <a:xfrm>
              <a:off x="103320" y="5492880"/>
              <a:ext cx="9235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54080" y="5511960"/>
              <a:ext cx="882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2060"/>
                  </a:solidFill>
                  <a:latin typeface="Arial Unicode MS"/>
                  <a:ea typeface="Arial Unicode MS"/>
                </a:rPr>
                <a:t>If </a:t>
              </a:r>
              <a:r>
                <a:rPr b="1" lang="en-GB" sz="1800" spc="-1" strike="noStrike">
                  <a:solidFill>
                    <a:srgbClr val="002060"/>
                  </a:solidFill>
                  <a:latin typeface="Arial Unicode MS"/>
                  <a:ea typeface="Arial Unicode MS"/>
                </a:rPr>
                <a:t>nACH</a:t>
              </a:r>
              <a:r>
                <a:rPr b="0" lang="en-GB" sz="1800" spc="-1" strike="noStrike">
                  <a:solidFill>
                    <a:srgbClr val="002060"/>
                  </a:solidFill>
                  <a:latin typeface="Arial Unicode MS"/>
                  <a:ea typeface="Arial Unicode MS"/>
                </a:rPr>
                <a:t> outweighs our </a:t>
              </a:r>
              <a:r>
                <a:rPr b="1" lang="en-GB" sz="1800" spc="-1" strike="noStrike">
                  <a:solidFill>
                    <a:srgbClr val="002060"/>
                  </a:solidFill>
                  <a:latin typeface="Arial Unicode MS"/>
                  <a:ea typeface="Arial Unicode MS"/>
                </a:rPr>
                <a:t>naF</a:t>
              </a:r>
              <a:r>
                <a:rPr b="0" lang="en-GB" sz="1800" spc="-1" strike="noStrike">
                  <a:solidFill>
                    <a:srgbClr val="002060"/>
                  </a:solidFill>
                  <a:latin typeface="Arial Unicode MS"/>
                  <a:ea typeface="Arial Unicode MS"/>
                </a:rPr>
                <a:t>= high in achievement motivation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2060"/>
                  </a:solidFill>
                  <a:latin typeface="Arial Unicode MS"/>
                  <a:ea typeface="Arial Unicode MS"/>
                </a:rPr>
                <a:t>If </a:t>
              </a:r>
              <a:r>
                <a:rPr b="1" lang="en-GB" sz="1800" spc="-1" strike="noStrike">
                  <a:solidFill>
                    <a:srgbClr val="002060"/>
                  </a:solidFill>
                  <a:latin typeface="Arial Unicode MS"/>
                  <a:ea typeface="Arial Unicode MS"/>
                </a:rPr>
                <a:t>naF</a:t>
              </a:r>
              <a:r>
                <a:rPr b="0" lang="en-GB" sz="1800" spc="-1" strike="noStrike">
                  <a:solidFill>
                    <a:srgbClr val="002060"/>
                  </a:solidFill>
                  <a:latin typeface="Arial Unicode MS"/>
                  <a:ea typeface="Arial Unicode MS"/>
                </a:rPr>
                <a:t> outweighs our </a:t>
              </a:r>
              <a:r>
                <a:rPr b="1" lang="en-GB" sz="1800" spc="-1" strike="noStrike">
                  <a:solidFill>
                    <a:srgbClr val="002060"/>
                  </a:solidFill>
                  <a:latin typeface="Arial Unicode MS"/>
                  <a:ea typeface="Arial Unicode MS"/>
                </a:rPr>
                <a:t>nACH</a:t>
              </a:r>
              <a:r>
                <a:rPr b="0" lang="en-GB" sz="1800" spc="-1" strike="noStrike">
                  <a:solidFill>
                    <a:srgbClr val="002060"/>
                  </a:solidFill>
                  <a:latin typeface="Arial Unicode MS"/>
                  <a:ea typeface="Arial Unicode MS"/>
                </a:rPr>
                <a:t>= low in achievement motivation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  <a:p>
              <a:pPr marL="285840" indent="-28584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  <a:p>
              <a:pPr marL="285840" indent="-28584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ffffff"/>
                  </a:solidFill>
                  <a:uFillTx/>
                  <a:latin typeface="Book Antiqua"/>
                </a:rPr>
                <a:t>This will influence our behaviour in sport and the challenges we seek</a:t>
              </a:r>
              <a:r>
                <a:rPr b="0" lang="en-GB" sz="1800" spc="-1" strike="noStrike">
                  <a:solidFill>
                    <a:srgbClr val="ffffff"/>
                  </a:solidFill>
                  <a:latin typeface="Book Antiqua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</p:spTree>
  </p:cSld>
  <p:transition spd="med" advTm="15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326880" y="260280"/>
            <a:ext cx="8209080" cy="1373760"/>
          </a:xfrm>
          <a:prstGeom prst="rect">
            <a:avLst/>
          </a:prstGeom>
          <a:solidFill>
            <a:srgbClr val="a379bb"/>
          </a:solidFill>
          <a:ln w="25560">
            <a:solidFill>
              <a:srgbClr val="775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How will being high or low in achievement motivation affect a sportspersons behaviour/ sport?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826920" y="2374920"/>
            <a:ext cx="2805120" cy="2050920"/>
          </a:xfrm>
          <a:prstGeom prst="rect">
            <a:avLst/>
          </a:prstGeom>
          <a:solidFill>
            <a:srgbClr val="9cb084"/>
          </a:solidFill>
          <a:ln w="25560">
            <a:solidFill>
              <a:srgbClr val="718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High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Choose competitive situation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Choose opponents close to their skill level and present a challeng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438800" y="2354400"/>
            <a:ext cx="3457440" cy="1776600"/>
          </a:xfrm>
          <a:prstGeom prst="rect">
            <a:avLst/>
          </a:prstGeom>
          <a:solidFill>
            <a:srgbClr val="9cb084"/>
          </a:solidFill>
          <a:ln w="25560">
            <a:solidFill>
              <a:srgbClr val="718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Low (high fear of failure)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Choose opponents of much higher/lower skill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Avoid situations that present personal challeng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Down Arrow 6"/>
          <p:cNvSpPr/>
          <p:nvPr/>
        </p:nvSpPr>
        <p:spPr>
          <a:xfrm>
            <a:off x="2124000" y="1646280"/>
            <a:ext cx="576360" cy="558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Down Arrow 7"/>
          <p:cNvSpPr/>
          <p:nvPr/>
        </p:nvSpPr>
        <p:spPr>
          <a:xfrm>
            <a:off x="5580000" y="1646280"/>
            <a:ext cx="1944720" cy="558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07" name="TextBox 8"/>
          <p:cNvGrpSpPr/>
          <p:nvPr/>
        </p:nvGrpSpPr>
        <p:grpSpPr>
          <a:xfrm>
            <a:off x="281160" y="4992840"/>
            <a:ext cx="8259480" cy="2352600"/>
            <a:chOff x="281160" y="4992840"/>
            <a:chExt cx="8259480" cy="2352600"/>
          </a:xfrm>
        </p:grpSpPr>
        <p:pic>
          <p:nvPicPr>
            <p:cNvPr id="108" name="TextBox 8" descr=""/>
            <p:cNvPicPr/>
            <p:nvPr/>
          </p:nvPicPr>
          <p:blipFill>
            <a:blip r:embed="rId1"/>
            <a:stretch/>
          </p:blipFill>
          <p:spPr>
            <a:xfrm>
              <a:off x="281160" y="4992840"/>
              <a:ext cx="825948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26880" y="5013360"/>
              <a:ext cx="7845480" cy="20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2060"/>
                  </a:solidFill>
                  <a:latin typeface="Arial Unicode MS"/>
                  <a:ea typeface="Arial Unicode MS"/>
                </a:rPr>
                <a:t>Situation:</a:t>
              </a:r>
              <a:endParaRPr b="0" lang="en-US" sz="3200" spc="-1" strike="noStrike">
                <a:solidFill>
                  <a:srgbClr val="ffffff"/>
                </a:solidFill>
                <a:latin typeface="Book Antiqua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Arial Unicode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2060"/>
                  </a:solidFill>
                  <a:latin typeface="Arial Unicode MS"/>
                  <a:ea typeface="Arial Unicode MS"/>
                </a:rPr>
                <a:t>If probability of success is high, tends to weaken the need to achieve as reward is low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Arial Unicode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2060"/>
                  </a:solidFill>
                  <a:latin typeface="Arial Unicode MS"/>
                  <a:ea typeface="Arial Unicode MS"/>
                </a:rPr>
                <a:t>If probability of success is low, then need to avoid failure is low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Arial Unicode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Arial Unicode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</p:spTree>
  </p:cSld>
  <p:transition spd="med" advTm="1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19080" y="-6480"/>
            <a:ext cx="82407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11" name="TextBox 3"/>
          <p:cNvGrpSpPr/>
          <p:nvPr/>
        </p:nvGrpSpPr>
        <p:grpSpPr>
          <a:xfrm>
            <a:off x="-12600" y="890640"/>
            <a:ext cx="5595840" cy="957240"/>
            <a:chOff x="-12600" y="890640"/>
            <a:chExt cx="5595840" cy="957240"/>
          </a:xfrm>
        </p:grpSpPr>
        <p:pic>
          <p:nvPicPr>
            <p:cNvPr id="112" name="TextBox 3" descr=""/>
            <p:cNvPicPr/>
            <p:nvPr/>
          </p:nvPicPr>
          <p:blipFill>
            <a:blip r:embed="rId2"/>
            <a:stretch/>
          </p:blipFill>
          <p:spPr>
            <a:xfrm>
              <a:off x="-12600" y="890640"/>
              <a:ext cx="55958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08000" y="981000"/>
              <a:ext cx="52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ook Antiqua"/>
                </a:rPr>
                <a:t>The reasons we give for an outcome are called ATTRIBUTIONS.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14" name="TextBox 4"/>
          <p:cNvSpPr/>
          <p:nvPr/>
        </p:nvSpPr>
        <p:spPr>
          <a:xfrm>
            <a:off x="0" y="2066760"/>
            <a:ext cx="3745080" cy="3385800"/>
          </a:xfrm>
          <a:prstGeom prst="rect">
            <a:avLst/>
          </a:prstGeom>
          <a:solidFill>
            <a:srgbClr val="6bb1c9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ABILITY/ SKILL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Performers capabilit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EFFORT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Physical and mental effor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TASK DIFFICULTY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Problems posed by the task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LUCK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Attributed to chance (weather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429160" y="1123920"/>
            <a:ext cx="3384720" cy="3020040"/>
          </a:xfrm>
          <a:prstGeom prst="rect">
            <a:avLst/>
          </a:prstGeom>
          <a:solidFill>
            <a:srgbClr val="7e6bc9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They affect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Motivation Leve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Process of understanding in order to learn from our experienc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Will affect our future expectations of success and failu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Down Arrow 2"/>
          <p:cNvSpPr/>
          <p:nvPr/>
        </p:nvSpPr>
        <p:spPr>
          <a:xfrm>
            <a:off x="1258920" y="1557360"/>
            <a:ext cx="1584360" cy="503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Right Arrow 6"/>
          <p:cNvSpPr/>
          <p:nvPr/>
        </p:nvSpPr>
        <p:spPr>
          <a:xfrm>
            <a:off x="4013280" y="2060640"/>
            <a:ext cx="1224000" cy="144360"/>
          </a:xfrm>
          <a:prstGeom prst="rightArrow">
            <a:avLst>
              <a:gd name="adj1" fmla="val 50000"/>
              <a:gd name="adj2" fmla="val 4989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Right Arrow 7"/>
          <p:cNvSpPr/>
          <p:nvPr/>
        </p:nvSpPr>
        <p:spPr>
          <a:xfrm>
            <a:off x="3743280" y="2490840"/>
            <a:ext cx="865080" cy="1555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Right Arrow 8"/>
          <p:cNvSpPr/>
          <p:nvPr/>
        </p:nvSpPr>
        <p:spPr>
          <a:xfrm>
            <a:off x="3851280" y="2852640"/>
            <a:ext cx="936720" cy="863640"/>
          </a:xfrm>
          <a:prstGeom prst="rightArrow">
            <a:avLst>
              <a:gd name="adj1" fmla="val 50000"/>
              <a:gd name="adj2" fmla="val 5005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3"/>
          <a:stretch/>
        </p:blipFill>
        <p:spPr>
          <a:xfrm>
            <a:off x="4176720" y="4365720"/>
            <a:ext cx="3146400" cy="23605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5840" y="0"/>
            <a:ext cx="8229600" cy="424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136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Reasons for Success: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바탕"/>
                <a:ea typeface="바탕"/>
              </a:rPr>
              <a:t>‘</a:t>
            </a:r>
            <a:r>
              <a:rPr b="1" lang="en-GB" sz="2200" spc="-1" strike="noStrike">
                <a:solidFill>
                  <a:srgbClr val="ffffff"/>
                </a:solidFill>
                <a:latin typeface="바탕"/>
                <a:ea typeface="바탕"/>
              </a:rPr>
              <a:t>I played well today, the training is paying off’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바탕"/>
                <a:ea typeface="바탕"/>
              </a:rPr>
              <a:t>‘</a:t>
            </a:r>
            <a:r>
              <a:rPr b="1" lang="en-GB" sz="2200" spc="-1" strike="noStrike">
                <a:solidFill>
                  <a:srgbClr val="ffffff"/>
                </a:solidFill>
                <a:latin typeface="바탕"/>
                <a:ea typeface="바탕"/>
              </a:rPr>
              <a:t>I was lucky to get away with that one’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바탕"/>
                <a:ea typeface="바탕"/>
              </a:rPr>
              <a:t>‘</a:t>
            </a:r>
            <a:r>
              <a:rPr b="1" lang="en-GB" sz="2200" spc="-1" strike="noStrike">
                <a:solidFill>
                  <a:srgbClr val="ffffff"/>
                </a:solidFill>
                <a:latin typeface="바탕"/>
                <a:ea typeface="바탕"/>
              </a:rPr>
              <a:t>I tried like mad in the final set- that’s what pulled me through’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Reasons for Failure: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바탕"/>
                <a:ea typeface="바탕"/>
              </a:rPr>
              <a:t>‘</a:t>
            </a:r>
            <a:r>
              <a:rPr b="1" lang="en-GB" sz="2200" spc="-1" strike="noStrike">
                <a:solidFill>
                  <a:srgbClr val="ffffff"/>
                </a:solidFill>
                <a:latin typeface="바탕"/>
                <a:ea typeface="바탕"/>
              </a:rPr>
              <a:t>I can’t play this game- it’s impossible’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바탕"/>
                <a:ea typeface="바탕"/>
              </a:rPr>
              <a:t>‘</a:t>
            </a:r>
            <a:r>
              <a:rPr b="1" lang="en-GB" sz="2200" spc="-1" strike="noStrike">
                <a:solidFill>
                  <a:srgbClr val="ffffff"/>
                </a:solidFill>
                <a:latin typeface="바탕"/>
                <a:ea typeface="바탕"/>
              </a:rPr>
              <a:t>I didn’t get the rub of the green today’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바탕"/>
                <a:ea typeface="바탕"/>
              </a:rPr>
              <a:t>‘</a:t>
            </a:r>
            <a:r>
              <a:rPr b="1" lang="en-GB" sz="2200" spc="-1" strike="noStrike">
                <a:solidFill>
                  <a:srgbClr val="ffffff"/>
                </a:solidFill>
                <a:latin typeface="바탕"/>
                <a:ea typeface="바탕"/>
              </a:rPr>
              <a:t>I was really lazy today’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08000" y="4508640"/>
            <a:ext cx="8856720" cy="1776600"/>
          </a:xfrm>
          <a:prstGeom prst="rect">
            <a:avLst/>
          </a:prstGeom>
          <a:solidFill>
            <a:srgbClr val="a379bb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Research findings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Winners: take responsibility for their success and usually give internal attributions to make themselves feel better ‘I am more talented’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Losers: give external attributions for their failures and try to either enhance or protect their ego ‘the referee was against me’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 advTm="15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49320" y="2828880"/>
            <a:ext cx="8265960" cy="118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1979640" y="5143680"/>
            <a:ext cx="2619360" cy="1742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6886440" y="2633760"/>
            <a:ext cx="2257560" cy="28573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138240" y="4889520"/>
            <a:ext cx="2881080" cy="916920"/>
          </a:xfrm>
          <a:prstGeom prst="rect">
            <a:avLst/>
          </a:prstGeom>
          <a:gradFill rotWithShape="0">
            <a:gsLst>
              <a:gs pos="0">
                <a:srgbClr val="815f94"/>
              </a:gs>
              <a:gs pos="100000">
                <a:srgbClr val="815f94"/>
              </a:gs>
            </a:gsLst>
            <a:lin ang="8340000"/>
          </a:gradFill>
          <a:ln w="9360">
            <a:solidFill>
              <a:srgbClr val="755388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Intrinsic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435640" y="5305320"/>
            <a:ext cx="3457440" cy="1008360"/>
          </a:xfrm>
          <a:prstGeom prst="rect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Book Antiqua"/>
              </a:rPr>
              <a:t>Extrinsic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Down Arrow 5"/>
          <p:cNvSpPr/>
          <p:nvPr/>
        </p:nvSpPr>
        <p:spPr>
          <a:xfrm>
            <a:off x="539640" y="3090960"/>
            <a:ext cx="792360" cy="187308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Down Arrow 6"/>
          <p:cNvSpPr/>
          <p:nvPr/>
        </p:nvSpPr>
        <p:spPr>
          <a:xfrm>
            <a:off x="4727520" y="4032360"/>
            <a:ext cx="3529080" cy="1152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6105600" cy="2633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09:38:06Z</dcterms:created>
  <dc:creator/>
  <dc:description/>
  <dc:language>en-US</dc:language>
  <cp:lastModifiedBy>Bright</cp:lastModifiedBy>
  <cp:lastPrinted>2013-02-05T14:05:31Z</cp:lastPrinted>
  <dcterms:modified xsi:type="dcterms:W3CDTF">2013-08-22T14:03:42Z</dcterms:modified>
  <cp:revision>24</cp:revision>
  <dc:subject/>
  <dc:title>PowerPoint Presentation</dc:title>
</cp:coreProperties>
</file>